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F1823-34B9-41F1-A1F3-0612F86BED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CDC19-43E0-42C0-95AB-1571DE5114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28600" y="690480"/>
            <a:ext cx="460548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800" y="4338720"/>
            <a:ext cx="5484960" cy="41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1E57-A5A6-4F6A-ABC1-238DEA39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5513-5BE0-469B-9B61-C49E9A45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1E19-AF24-49EE-B365-6CEB527E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7FAE-7F1F-469E-B1D2-0BE5EBBF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1926-482B-4327-84D8-A0279A96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53D8-2DED-45DE-8F23-89374F85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0406-B65C-47CF-BB39-52DBAC5B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32F7-DAC9-42CB-8D8F-6AACD4FA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8F24-72ED-4742-B4D4-F8ADBC26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C9C1-0F8A-4503-B8AB-BE595EC2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212D-4CC3-426E-8C7B-F5EFA4E4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E22B-C524-4FBD-A4A7-826DAF16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D9DE1-4B81-4E03-98E1-691BFBFA47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gbujic@ccf.org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7476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manticDB 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757680"/>
            <a:ext cx="6400800" cy="21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mezie Ogbu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veland Clinic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ogbujic@ccf.or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/ chimezie@g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625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February 14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CC0AF-0703-4496-A06A-F9922DC3288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309680"/>
            <a:ext cx="9140760" cy="4575240"/>
          </a:xfrm>
          <a:prstGeom prst="triangle">
            <a:avLst>
              <a:gd name="adj" fmla="val 50000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9000" y="1397160"/>
            <a:ext cx="8791560" cy="4400280"/>
          </a:xfrm>
          <a:prstGeom prst="triangle">
            <a:avLst>
              <a:gd name="adj" fmla="val 50000"/>
            </a:avLst>
          </a:prstGeom>
          <a:solidFill>
            <a:srgbClr val="2323b9"/>
          </a:solidFill>
          <a:ln w="0">
            <a:noFill/>
          </a:ln>
          <a:effectLst>
            <a:outerShdw dist="17819" dir="2700000" blurRad="0" rotWithShape="0">
              <a:srgbClr val="151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27000" y="1397160"/>
            <a:ext cx="7315200" cy="3660480"/>
          </a:xfrm>
          <a:prstGeom prst="triangle">
            <a:avLst>
              <a:gd name="adj" fmla="val 50000"/>
            </a:avLst>
          </a:prstGeom>
          <a:solidFill>
            <a:srgbClr val="8c91d2"/>
          </a:solidFill>
          <a:ln w="0">
            <a:noFill/>
          </a:ln>
          <a:effectLst>
            <a:outerShdw dist="17819" dir="2700000" blurRad="0" rotWithShape="0">
              <a:srgbClr val="5457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60680" y="1397160"/>
            <a:ext cx="5848200" cy="29239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17960" y="2130480"/>
            <a:ext cx="4390920" cy="21906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60680" y="2130480"/>
            <a:ext cx="4387680" cy="21906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51280" y="2492280"/>
            <a:ext cx="3657600" cy="182880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65360" y="2492280"/>
            <a:ext cx="3654360" cy="182880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5960" y="2863800"/>
            <a:ext cx="4380120" cy="2193840"/>
          </a:xfrm>
          <a:prstGeom prst="triangle">
            <a:avLst>
              <a:gd name="adj" fmla="val 50000"/>
            </a:avLst>
          </a:prstGeom>
          <a:solidFill>
            <a:srgbClr val="8c91d2"/>
          </a:solidFill>
          <a:ln w="0">
            <a:noFill/>
          </a:ln>
          <a:effectLst>
            <a:outerShdw dist="17819" dir="2700000" blurRad="0" rotWithShape="0">
              <a:srgbClr val="5457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3600360"/>
            <a:ext cx="2917800" cy="1457280"/>
          </a:xfrm>
          <a:prstGeom prst="triangle">
            <a:avLst>
              <a:gd name="adj" fmla="val 50000"/>
            </a:avLst>
          </a:prstGeom>
          <a:solidFill>
            <a:srgbClr val="6b71c5"/>
          </a:solidFill>
          <a:ln w="0">
            <a:noFill/>
          </a:ln>
          <a:effectLst>
            <a:outerShdw dist="17819" dir="2700000" blurRad="0" rotWithShape="0">
              <a:srgbClr val="4044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38160" y="2863800"/>
            <a:ext cx="4380120" cy="2193840"/>
          </a:xfrm>
          <a:prstGeom prst="triangle">
            <a:avLst>
              <a:gd name="adj" fmla="val 50000"/>
            </a:avLst>
          </a:prstGeom>
          <a:solidFill>
            <a:srgbClr val="8c91d2"/>
          </a:solidFill>
          <a:ln w="0">
            <a:noFill/>
          </a:ln>
          <a:effectLst>
            <a:outerShdw dist="17819" dir="2700000" blurRad="0" rotWithShape="0">
              <a:srgbClr val="5457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27000" y="3600360"/>
            <a:ext cx="2924280" cy="1457280"/>
          </a:xfrm>
          <a:prstGeom prst="triangle">
            <a:avLst>
              <a:gd name="adj" fmla="val 50000"/>
            </a:avLst>
          </a:prstGeom>
          <a:solidFill>
            <a:srgbClr val="6b71c5"/>
          </a:solidFill>
          <a:ln w="0">
            <a:noFill/>
          </a:ln>
          <a:effectLst>
            <a:outerShdw dist="17819" dir="2700000" blurRad="0" rotWithShape="0">
              <a:srgbClr val="4044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66800" y="3600360"/>
            <a:ext cx="2913120" cy="1457280"/>
          </a:xfrm>
          <a:prstGeom prst="triangle">
            <a:avLst>
              <a:gd name="adj" fmla="val 50000"/>
            </a:avLst>
          </a:prstGeom>
          <a:solidFill>
            <a:srgbClr val="5b62bf"/>
          </a:solidFill>
          <a:ln w="0">
            <a:noFill/>
          </a:ln>
          <a:effectLst>
            <a:outerShdw dist="17819" dir="2700000" blurRad="0" rotWithShape="0">
              <a:srgbClr val="373b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84600" y="3600360"/>
            <a:ext cx="2924280" cy="1457280"/>
          </a:xfrm>
          <a:prstGeom prst="triangle">
            <a:avLst>
              <a:gd name="adj" fmla="val 50000"/>
            </a:avLst>
          </a:prstGeom>
          <a:solidFill>
            <a:srgbClr val="5b62bf"/>
          </a:solidFill>
          <a:ln w="0">
            <a:noFill/>
          </a:ln>
          <a:effectLst>
            <a:outerShdw dist="17819" dir="2700000" blurRad="0" rotWithShape="0">
              <a:srgbClr val="373b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865320" y="1535040"/>
            <a:ext cx="1428120" cy="1231200"/>
            <a:chOff x="3865320" y="1535040"/>
            <a:chExt cx="1428120" cy="1231200"/>
          </a:xfrm>
        </p:grpSpPr>
        <p:sp>
          <p:nvSpPr>
            <p:cNvPr id="69" name=""/>
            <p:cNvSpPr/>
            <p:nvPr/>
          </p:nvSpPr>
          <p:spPr>
            <a:xfrm>
              <a:off x="4330080" y="1535040"/>
              <a:ext cx="51588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Th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70160" y="1771560"/>
              <a:ext cx="5479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Intangibl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Th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56520" y="1809720"/>
              <a:ext cx="53568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Individu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68200" y="2008080"/>
              <a:ext cx="5252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Tempor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Th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344480" y="2008080"/>
              <a:ext cx="42156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pati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Th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15840" y="2219400"/>
              <a:ext cx="4899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artiall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Tangibl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Th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41080" y="2297160"/>
              <a:ext cx="38052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ath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65320" y="2006640"/>
              <a:ext cx="50976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e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Relation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73640" y="2508120"/>
              <a:ext cx="3697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Logic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Math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765440" y="4143240"/>
            <a:ext cx="2667960" cy="934200"/>
            <a:chOff x="1765440" y="4143240"/>
            <a:chExt cx="2667960" cy="934200"/>
          </a:xfrm>
        </p:grpSpPr>
        <p:sp>
          <p:nvSpPr>
            <p:cNvPr id="79" name=""/>
            <p:cNvSpPr/>
            <p:nvPr/>
          </p:nvSpPr>
          <p:spPr>
            <a:xfrm>
              <a:off x="2498760" y="4184640"/>
              <a:ext cx="4780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Hum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Artifac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03840" y="4737240"/>
              <a:ext cx="5295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oci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Relations,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Cultur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31640" y="4143240"/>
              <a:ext cx="5799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Hum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Anatomy &amp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hysiolog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75120" y="4433760"/>
              <a:ext cx="56772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Emo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ercep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Belief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68320" y="4433760"/>
              <a:ext cx="57528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Hum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Behavior &amp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Action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13920" y="4475160"/>
              <a:ext cx="4993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roduc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Devi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54920" y="4475160"/>
              <a:ext cx="5860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Conceptu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Work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65440" y="4735440"/>
              <a:ext cx="6825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Vehicl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Building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Weapon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345040" y="4737240"/>
              <a:ext cx="58464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Mechanic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&amp; Electric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Devi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80360" y="4737240"/>
              <a:ext cx="62712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oftwar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Literatur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Works of Ar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37280" y="4818240"/>
              <a:ext cx="53748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Languag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596840" y="3462480"/>
            <a:ext cx="3533040" cy="1622880"/>
            <a:chOff x="4596840" y="3462480"/>
            <a:chExt cx="3533040" cy="1622880"/>
          </a:xfrm>
        </p:grpSpPr>
        <p:grpSp>
          <p:nvGrpSpPr>
            <p:cNvPr id="91" name=""/>
            <p:cNvGrpSpPr/>
            <p:nvPr/>
          </p:nvGrpSpPr>
          <p:grpSpPr>
            <a:xfrm>
              <a:off x="4596840" y="3462480"/>
              <a:ext cx="2151720" cy="981720"/>
              <a:chOff x="4596840" y="3462480"/>
              <a:chExt cx="2151720" cy="981720"/>
            </a:xfrm>
          </p:grpSpPr>
          <p:sp>
            <p:nvSpPr>
              <p:cNvPr id="92" name=""/>
              <p:cNvSpPr/>
              <p:nvPr/>
            </p:nvSpPr>
            <p:spPr>
              <a:xfrm>
                <a:off x="4596840" y="4186080"/>
                <a:ext cx="68508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Agen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Organization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380920" y="3462480"/>
                <a:ext cx="71100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Organizational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Action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010840" y="3830760"/>
                <a:ext cx="71100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Organizational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Plan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063480" y="3462480"/>
                <a:ext cx="68508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Types of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Organization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6481080" y="3830760"/>
              <a:ext cx="1648800" cy="1254600"/>
              <a:chOff x="6481080" y="3830760"/>
              <a:chExt cx="1648800" cy="1254600"/>
            </a:xfrm>
          </p:grpSpPr>
          <p:sp>
            <p:nvSpPr>
              <p:cNvPr id="97" name=""/>
              <p:cNvSpPr/>
              <p:nvPr/>
            </p:nvSpPr>
            <p:spPr>
              <a:xfrm>
                <a:off x="6481080" y="3830760"/>
                <a:ext cx="68508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Huma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Organization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811920" y="4145040"/>
                <a:ext cx="66672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Nation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Government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Geo-Politic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444800" y="4745160"/>
                <a:ext cx="68508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Business,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Military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Organization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263360" y="4516560"/>
                <a:ext cx="32256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Law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4812840" y="4186080"/>
            <a:ext cx="2508840" cy="860040"/>
            <a:chOff x="4812840" y="4186080"/>
            <a:chExt cx="2508840" cy="860040"/>
          </a:xfrm>
        </p:grpSpPr>
        <p:sp>
          <p:nvSpPr>
            <p:cNvPr id="102" name=""/>
            <p:cNvSpPr/>
            <p:nvPr/>
          </p:nvSpPr>
          <p:spPr>
            <a:xfrm>
              <a:off x="5457240" y="4186080"/>
              <a:ext cx="5738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Business &amp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Commer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10000" y="4186080"/>
              <a:ext cx="47016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olitic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Warfar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06920" y="4475160"/>
              <a:ext cx="6271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rofession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Occupation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97960" y="4475160"/>
              <a:ext cx="5832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urchas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69600" y="4788000"/>
              <a:ext cx="7524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Trav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Communica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75520" y="4788000"/>
              <a:ext cx="7171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Transporta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&amp; Logistic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12840" y="4788000"/>
              <a:ext cx="4978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oci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Activiti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16240" y="4788000"/>
              <a:ext cx="5054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Everyda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Liv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97360" y="4437000"/>
              <a:ext cx="6987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por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Recrea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Entertain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593160" y="2486160"/>
            <a:ext cx="2003400" cy="1630440"/>
            <a:chOff x="3593160" y="2486160"/>
            <a:chExt cx="2003400" cy="1630440"/>
          </a:xfrm>
        </p:grpSpPr>
        <p:sp>
          <p:nvSpPr>
            <p:cNvPr id="112" name=""/>
            <p:cNvSpPr/>
            <p:nvPr/>
          </p:nvSpPr>
          <p:spPr>
            <a:xfrm>
              <a:off x="4638960" y="2792520"/>
              <a:ext cx="5785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Artifac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33600" y="3138480"/>
              <a:ext cx="69876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Move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81880" y="3457440"/>
              <a:ext cx="6577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tate Chang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Dynamic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93160" y="3056040"/>
              <a:ext cx="51300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Material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ar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tatic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07040" y="3803760"/>
              <a:ext cx="5648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Physic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Agen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39480" y="2746440"/>
              <a:ext cx="5374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Border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Geomet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17600" y="2486160"/>
              <a:ext cx="502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Even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Scrip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63440" y="2508120"/>
              <a:ext cx="42156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pati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ath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65200" y="3076560"/>
              <a:ext cx="5313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Acto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Ac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30040" y="3436920"/>
              <a:ext cx="4503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Pla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Goal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810160" y="2287440"/>
            <a:ext cx="3603240" cy="1856880"/>
            <a:chOff x="2810160" y="2287440"/>
            <a:chExt cx="3603240" cy="1856880"/>
          </a:xfrm>
        </p:grpSpPr>
        <p:sp>
          <p:nvSpPr>
            <p:cNvPr id="123" name=""/>
            <p:cNvSpPr/>
            <p:nvPr/>
          </p:nvSpPr>
          <p:spPr>
            <a:xfrm>
              <a:off x="5092560" y="2287440"/>
              <a:ext cx="473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Ti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02160" y="2692440"/>
              <a:ext cx="59508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Ag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90280" y="2287440"/>
              <a:ext cx="5328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Sp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74480" y="2698920"/>
              <a:ext cx="6562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Objec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0520" y="3776760"/>
              <a:ext cx="6210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Hum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Bein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84120" y="3054240"/>
              <a:ext cx="5997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Org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iz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06720" y="3776760"/>
              <a:ext cx="7066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Hum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Activit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10160" y="3054240"/>
              <a:ext cx="5770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Liv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Thin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041480" y="3436920"/>
            <a:ext cx="3835080" cy="1609200"/>
            <a:chOff x="1041480" y="3436920"/>
            <a:chExt cx="3835080" cy="1609200"/>
          </a:xfrm>
        </p:grpSpPr>
        <p:grpSp>
          <p:nvGrpSpPr>
            <p:cNvPr id="132" name=""/>
            <p:cNvGrpSpPr/>
            <p:nvPr/>
          </p:nvGrpSpPr>
          <p:grpSpPr>
            <a:xfrm>
              <a:off x="2458080" y="3436920"/>
              <a:ext cx="2418480" cy="1325520"/>
              <a:chOff x="2458080" y="3436920"/>
              <a:chExt cx="2418480" cy="1325520"/>
            </a:xfrm>
          </p:grpSpPr>
          <p:sp>
            <p:nvSpPr>
              <p:cNvPr id="133" name=""/>
              <p:cNvSpPr/>
              <p:nvPr/>
            </p:nvSpPr>
            <p:spPr>
              <a:xfrm>
                <a:off x="4267440" y="4449600"/>
                <a:ext cx="6091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 Black"/>
                  </a:rPr>
                  <a:t>Soci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 Black"/>
                  </a:rPr>
                  <a:t>Behavio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10840" y="3436920"/>
                <a:ext cx="483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 Black"/>
                  </a:rPr>
                  <a:t>Lif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 Black"/>
                  </a:rPr>
                  <a:t>Form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79000" y="4213080"/>
                <a:ext cx="56340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 Black"/>
                  </a:rPr>
                  <a:t>Animal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568680" y="3855960"/>
                <a:ext cx="47484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 Black"/>
                  </a:rPr>
                  <a:t>Plant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458080" y="3490920"/>
                <a:ext cx="55116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 Black"/>
                  </a:rPr>
                  <a:t>Ecolog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1041480" y="3830760"/>
              <a:ext cx="1567800" cy="1215360"/>
              <a:chOff x="1041480" y="3830760"/>
              <a:chExt cx="1567800" cy="1215360"/>
            </a:xfrm>
          </p:grpSpPr>
          <p:sp>
            <p:nvSpPr>
              <p:cNvPr id="139" name=""/>
              <p:cNvSpPr/>
              <p:nvPr/>
            </p:nvSpPr>
            <p:spPr>
              <a:xfrm>
                <a:off x="2029320" y="3830760"/>
                <a:ext cx="57996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Natural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Geography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41480" y="4788000"/>
                <a:ext cx="64080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Earth &amp;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Solar System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703880" y="4186080"/>
                <a:ext cx="57996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Political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Geography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48640" y="4516560"/>
                <a:ext cx="48708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Weath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>
            <a:off x="1886760" y="5281560"/>
            <a:ext cx="53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General Knowledge about Various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3520" y="1434960"/>
            <a:ext cx="300672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Cyc contai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15,000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redicates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300,000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3,200,000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sser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75400" y="1352520"/>
            <a:ext cx="33019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Represented 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DejaVu Sans"/>
              </a:rPr>
              <a:t>First Order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DejaVu Sans"/>
              </a:rPr>
              <a:t>Higher Order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DejaVu Sans"/>
              </a:rPr>
              <a:t>Context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DejaVu Sans"/>
              </a:rPr>
              <a:t>Micro-the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680" y="5865840"/>
            <a:ext cx="9086760" cy="87624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4600" y="5907240"/>
            <a:ext cx="8817120" cy="79344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0240" y="5721480"/>
            <a:ext cx="4584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Specific data, facts, and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80880" y="990720"/>
            <a:ext cx="3962520" cy="4038480"/>
            <a:chOff x="380880" y="990720"/>
            <a:chExt cx="3962520" cy="4038480"/>
          </a:xfrm>
        </p:grpSpPr>
        <p:sp>
          <p:nvSpPr>
            <p:cNvPr id="150" name=""/>
            <p:cNvSpPr/>
            <p:nvPr/>
          </p:nvSpPr>
          <p:spPr>
            <a:xfrm flipH="1">
              <a:off x="3196800" y="1143000"/>
              <a:ext cx="996840" cy="990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30280" y="2819520"/>
              <a:ext cx="2063520" cy="2057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38480" y="990720"/>
              <a:ext cx="30492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0880" y="4724280"/>
              <a:ext cx="30492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57200" y="-87480"/>
            <a:ext cx="8228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yc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50800" y="1727280"/>
            <a:ext cx="5808960" cy="4714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57200" y="128520"/>
            <a:ext cx="8228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tient Record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ample 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82560" y="2201760"/>
            <a:ext cx="5048280" cy="32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3664080"/>
            <a:ext cx="67168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508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nd all patients who had a pericardial aortic valve implanted during an aortic valve replacemen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85680" y="2479680"/>
            <a:ext cx="70153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 patients who had a tumor excision between 1980 and 2006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Slide 1</dc:title>
</cp:coreProperties>
</file>